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28.png" ContentType="image/png"/>
  <Override PartName="/ppt/media/image5.png" ContentType="image/png"/>
  <Override PartName="/ppt/media/image10.png" ContentType="image/png"/>
  <Override PartName="/ppt/media/image50.wmf" ContentType="image/x-wmf"/>
  <Override PartName="/ppt/media/image38.wmf" ContentType="image/x-wmf"/>
  <Override PartName="/ppt/media/image55.png" ContentType="image/png"/>
  <Override PartName="/ppt/media/image7.png" ContentType="image/png"/>
  <Override PartName="/ppt/media/image40.wmf" ContentType="image/x-wmf"/>
  <Override PartName="/ppt/media/image39.wmf" ContentType="image/x-wmf"/>
  <Override PartName="/ppt/media/image56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48.wmf" ContentType="image/x-wmf"/>
  <Override PartName="/ppt/media/image30.png" ContentType="image/png"/>
  <Override PartName="/ppt/media/image37.wmf" ContentType="image/x-wmf"/>
  <Override PartName="/ppt/media/image54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5.wmf" ContentType="image/x-wmf"/>
  <Override PartName="/ppt/media/image33.wmf" ContentType="image/x-wmf"/>
  <Override PartName="/ppt/media/image51.wmf" ContentType="image/x-wmf"/>
  <Override PartName="/ppt/media/image11.png" ContentType="image/png"/>
  <Override PartName="/ppt/media/image6.wmf" ContentType="image/x-wmf"/>
  <Override PartName="/ppt/media/image36.wmf" ContentType="image/x-wmf"/>
  <Override PartName="/ppt/media/image42.wmf" ContentType="image/x-wmf"/>
  <Override PartName="/ppt/media/image9.png" ContentType="image/png"/>
  <Override PartName="/ppt/media/image13.png" ContentType="image/png"/>
  <Override PartName="/ppt/media/image53.wmf" ContentType="image/x-wmf"/>
  <Override PartName="/ppt/media/image41.wmf" ContentType="image/x-wmf"/>
  <Override PartName="/ppt/media/image8.png" ContentType="image/png"/>
  <Override PartName="/ppt/media/image52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594A-C09F-4510-BEC6-DD28B96A7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-shaped poly(acrylic acid) having various numbers of arms (5, 8, and 21) and a strong cationi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electrolyte, viz., poly(N-ethyl-4-vinylpyridinium brom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C86-8790-4FC8-BDA6-AA81984D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C09-4A78-485B-9420-BBAFB51E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6E4-3E43-4FD6-8D12-EDCA5121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F80-20AB-44B1-BDD5-C863FBCC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24D-5F41-4D55-84DE-DB224687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72B-76F2-4F7E-A2DC-66FC5754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CF7-D7BF-4F53-9047-3038AD00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751-DA00-42AD-B472-A52E5B79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53D-E60C-4002-8B43-D7D9B53C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217-8D79-4F3E-ACB6-93FBDE0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532-C057-4168-8528-D3C6716C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D9B-AF6D-4B7B-A343-B85C0DD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85A-86C5-4534-9403-D7D966120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777080" cy="152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280" y="2419200"/>
            <a:ext cx="86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мпьютерное моделирование  комплексов линей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лиэлектролитов с разветвл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акромолекулами  в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560" y="3573360"/>
            <a:ext cx="42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.А.Даринский, С.В.Люлин, С.В.Л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50160" y="4437000"/>
            <a:ext cx="57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Институт Высокомолекулярных Соединений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ольшой пр.31 С.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95008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аруса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024360" cy="26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2998800" cy="3068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288120" y="907920"/>
            <a:ext cx="2855880" cy="2881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3816360" cy="278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995640" y="3284640"/>
            <a:ext cx="5148360" cy="2995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9548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9280" y="3089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77280" y="301608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90360" y="352116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61280" y="604044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22000" y="604044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4000" y="333360"/>
            <a:ext cx="42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везда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X8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нейный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024000" cy="261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3241800" cy="282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5111640" cy="2477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5075280" cy="207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178720" y="294480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66720" y="33051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69280" y="575316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54000" y="60404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17080" y="260280"/>
            <a:ext cx="42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9X5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нейный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16000" y="765000"/>
          <a:ext cx="640872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65000"/>
                    <a:ext cx="640872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87000" y="5157720"/>
            <a:ext cx="84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перезарядк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(Nads-No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функция избыточной длины це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(Nch-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6206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ch&gt; Q macro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79080" y="6137280"/>
            <a:ext cx="41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No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число заряженных групп в макрои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71600" y="136224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98240" y="2971800"/>
            <a:ext cx="5604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аметная переза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дин «хвост» при больших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лабая зависимость от топ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емонотонная зависимость от длины 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ет резкого изменения степени перезаря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0560" y="33192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ch&g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40360" y="692280"/>
            <a:ext cx="41036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ch&lt; Q macro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нтеполимерные комплексы со звездами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14520" y="1670040"/>
            <a:ext cx="4462560" cy="4206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94640" y="6014880"/>
            <a:ext cx="76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Pergusho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.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ab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Plamp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zin A., Müller A. //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Langmu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7984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Qch&lt; Q macro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комплек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708280" y="1560600"/>
            <a:ext cx="3303720" cy="2589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2184480" cy="2184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184120" cy="2184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69080" y="587232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1"/>
            <a:endCxn id="164" idx="0"/>
          </p:cNvCxnSpPr>
          <p:nvPr/>
        </p:nvCxnSpPr>
        <p:spPr>
          <a:xfrm flipV="1" rot="10800000">
            <a:off x="1415160" y="2855520"/>
            <a:ext cx="1293120" cy="7898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7" name=""/>
          <p:cNvSpPr/>
          <p:nvPr/>
        </p:nvSpPr>
        <p:spPr>
          <a:xfrm>
            <a:off x="2630520" y="2637000"/>
            <a:ext cx="730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2" idx="3"/>
            <a:endCxn id="163" idx="0"/>
          </p:cNvCxnSpPr>
          <p:nvPr/>
        </p:nvCxnSpPr>
        <p:spPr>
          <a:xfrm>
            <a:off x="6012000" y="2855880"/>
            <a:ext cx="1668960" cy="6451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9" name=""/>
          <p:cNvSpPr/>
          <p:nvPr/>
        </p:nvSpPr>
        <p:spPr>
          <a:xfrm>
            <a:off x="230040" y="5870520"/>
            <a:ext cx="26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же число слегка поджатых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83120" y="5734080"/>
            <a:ext cx="326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лучей звезды коллапсирована в ядро, другая -вытян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35384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цепи с жесткими связ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 взаимодействия –тэта условия (П-л Леннарда-Джон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езда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20-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иц в кажд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пи ПЭ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частицы заря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ные противои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хастическая динам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явный р-тель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грамма разр.П.Г.Халату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6306" t="4468" r="26306" b="4468"/>
          <a:stretch/>
        </p:blipFill>
        <p:spPr>
          <a:xfrm>
            <a:off x="468360" y="1628640"/>
            <a:ext cx="345600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1692360" y="5373720"/>
          <a:ext cx="5400720" cy="103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5373720"/>
                    <a:ext cx="54007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258920" y="2276640"/>
            <a:ext cx="1872720" cy="3094920"/>
            <a:chOff x="1258920" y="2276640"/>
            <a:chExt cx="1872720" cy="30949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rcRect l="29246" t="18335" r="28984" b="26121"/>
            <a:stretch/>
          </p:blipFill>
          <p:spPr>
            <a:xfrm>
              <a:off x="1258920" y="2739600"/>
              <a:ext cx="187128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258920" y="2276640"/>
              <a:ext cx="18727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Нейтральная звез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59280" y="2349360"/>
            <a:ext cx="3901320" cy="3672720"/>
            <a:chOff x="4859280" y="2349360"/>
            <a:chExt cx="3901320" cy="367272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rcRect l="18822" t="7039" r="29069" b="22781"/>
            <a:stretch/>
          </p:blipFill>
          <p:spPr>
            <a:xfrm>
              <a:off x="4859280" y="2349360"/>
              <a:ext cx="3901320" cy="36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016960" y="2499840"/>
              <a:ext cx="68400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132000" y="33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везда без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5280" y="98100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луч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8520" y="1773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яженная 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омплексы при разных степенях нейтрализации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 Black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8822" t="7039" r="29069" b="22781"/>
          <a:stretch/>
        </p:blipFill>
        <p:spPr>
          <a:xfrm>
            <a:off x="468360" y="1628640"/>
            <a:ext cx="2462040" cy="2355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22988" t="5461" r="26819" b="21415"/>
          <a:stretch/>
        </p:blipFill>
        <p:spPr>
          <a:xfrm>
            <a:off x="1979640" y="4076640"/>
            <a:ext cx="2363760" cy="2457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31350" t="20306" r="26971" b="12499"/>
          <a:stretch/>
        </p:blipFill>
        <p:spPr>
          <a:xfrm>
            <a:off x="3851280" y="1628640"/>
            <a:ext cx="19540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35516" t="17192" r="18548" b="27644"/>
          <a:stretch/>
        </p:blipFill>
        <p:spPr>
          <a:xfrm>
            <a:off x="5148360" y="4437000"/>
            <a:ext cx="2170080" cy="1860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rcRect l="22988" t="19581" r="33083" b="22909"/>
          <a:stretch/>
        </p:blipFill>
        <p:spPr>
          <a:xfrm>
            <a:off x="6588000" y="1700280"/>
            <a:ext cx="2090880" cy="1957320"/>
          </a:xfrm>
          <a:prstGeom prst="rect">
            <a:avLst/>
          </a:prstGeom>
          <a:ln w="0">
            <a:noFill/>
          </a:ln>
        </p:spPr>
      </p:pic>
      <p:cxnSp>
        <p:nvCxnSpPr>
          <p:cNvPr id="192" name=""/>
          <p:cNvCxnSpPr>
            <a:stCxn id="187" idx="3"/>
            <a:endCxn id="188" idx="0"/>
          </p:cNvCxnSpPr>
          <p:nvPr/>
        </p:nvCxnSpPr>
        <p:spPr>
          <a:xfrm>
            <a:off x="2930400" y="2806560"/>
            <a:ext cx="232560" cy="12708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3" name=""/>
          <p:cNvCxnSpPr>
            <a:stCxn id="188" idx="3"/>
            <a:endCxn id="189" idx="2"/>
          </p:cNvCxnSpPr>
          <p:nvPr/>
        </p:nvCxnSpPr>
        <p:spPr>
          <a:xfrm flipV="1">
            <a:off x="4343040" y="3879360"/>
            <a:ext cx="486360" cy="14263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4" name=""/>
          <p:cNvCxnSpPr>
            <a:stCxn id="189" idx="3"/>
            <a:endCxn id="190" idx="0"/>
          </p:cNvCxnSpPr>
          <p:nvPr/>
        </p:nvCxnSpPr>
        <p:spPr>
          <a:xfrm>
            <a:off x="5805000" y="2754360"/>
            <a:ext cx="429480" cy="16833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5" name=""/>
          <p:cNvCxnSpPr>
            <a:stCxn id="190" idx="3"/>
            <a:endCxn id="191" idx="2"/>
          </p:cNvCxnSpPr>
          <p:nvPr/>
        </p:nvCxnSpPr>
        <p:spPr>
          <a:xfrm flipV="1">
            <a:off x="7318080" y="3656880"/>
            <a:ext cx="316440" cy="17103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6" name=""/>
          <p:cNvSpPr/>
          <p:nvPr/>
        </p:nvSpPr>
        <p:spPr>
          <a:xfrm>
            <a:off x="540360" y="1700280"/>
            <a:ext cx="68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0360" y="414972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2000" y="161928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4360" y="450864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00120" y="3274920"/>
            <a:ext cx="874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-468360" y="836640"/>
          <a:ext cx="630072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836640"/>
                    <a:ext cx="630072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77120" y="508464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лучей по  расстоянию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личной степени нейтрализаци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96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31200" y="3429000"/>
            <a:ext cx="2905560" cy="1465560"/>
          </a:xfrm>
          <a:prstGeom prst="rect">
            <a:avLst/>
          </a:prstGeom>
          <a:solidFill>
            <a:srgbClr val="0099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ь лучей вытяну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ь подж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ропроционир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я поджатых луч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81240" y="1443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Qch&l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634920" y="36450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907640" y="3860280"/>
            <a:ext cx="3816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300720" y="981000"/>
            <a:ext cx="1873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261720" y="457200"/>
            <a:ext cx="96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Почему интересны полимеры с ионизированными групп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556560" y="1454040"/>
            <a:ext cx="106387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Технология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щита среды  -вода наиболее распространенный р-тель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агрохимия, нефтедобыча,косметика, продукты питания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иомедицинские приложения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аправленный транспорт лек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 генов, диагностика, инженерия искусственных органов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тересная физика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заимосвязь полимерной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связности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дальнодействующ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Кулоновскими взаимодействиями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большое число независимо вариабельных факторов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лияние соли,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H, T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электростатика,водородные связи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гидрофобные взаимодействия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,…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амоорганизация в 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иерархические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труктуры,</a:t>
            </a: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чувствительные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лабым внешним воздействиям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0752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Комплексы ПЭ со звездами с разными длинами лучей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N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Arial Black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5758" t="3797" r="8024" b="3421"/>
          <a:stretch/>
        </p:blipFill>
        <p:spPr>
          <a:xfrm>
            <a:off x="5148360" y="3357720"/>
            <a:ext cx="3671640" cy="3101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20865" t="13340" r="24911" b="4334"/>
          <a:stretch/>
        </p:blipFill>
        <p:spPr>
          <a:xfrm>
            <a:off x="2627280" y="1268280"/>
            <a:ext cx="2432160" cy="2563920"/>
          </a:xfrm>
          <a:prstGeom prst="rect">
            <a:avLst/>
          </a:prstGeom>
          <a:ln w="0">
            <a:noFill/>
          </a:ln>
        </p:spPr>
      </p:pic>
      <p:cxnSp>
        <p:nvCxnSpPr>
          <p:cNvPr id="213" name=""/>
          <p:cNvCxnSpPr>
            <a:stCxn id="214" idx="3"/>
            <a:endCxn id="215" idx="0"/>
          </p:cNvCxnSpPr>
          <p:nvPr/>
        </p:nvCxnSpPr>
        <p:spPr>
          <a:xfrm>
            <a:off x="2058840" y="2127240"/>
            <a:ext cx="178200" cy="1807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5" idx="3"/>
            <a:endCxn id="212" idx="2"/>
          </p:cNvCxnSpPr>
          <p:nvPr/>
        </p:nvCxnSpPr>
        <p:spPr>
          <a:xfrm flipV="1">
            <a:off x="3212640" y="3831480"/>
            <a:ext cx="631080" cy="122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2" idx="3"/>
            <a:endCxn id="211" idx="0"/>
          </p:cNvCxnSpPr>
          <p:nvPr/>
        </p:nvCxnSpPr>
        <p:spPr>
          <a:xfrm>
            <a:off x="5059080" y="2550600"/>
            <a:ext cx="1926360" cy="807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8" name=""/>
          <p:cNvGrpSpPr/>
          <p:nvPr/>
        </p:nvGrpSpPr>
        <p:grpSpPr>
          <a:xfrm>
            <a:off x="468360" y="1268280"/>
            <a:ext cx="1590480" cy="2061360"/>
            <a:chOff x="468360" y="1268280"/>
            <a:chExt cx="1590480" cy="206136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rcRect l="25986" t="32981" r="44884" b="22026"/>
            <a:stretch/>
          </p:blipFill>
          <p:spPr>
            <a:xfrm>
              <a:off x="468360" y="1268280"/>
              <a:ext cx="159048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68360" y="2923920"/>
              <a:ext cx="1589040" cy="40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arm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258920" y="3933720"/>
            <a:ext cx="1954080" cy="2566080"/>
            <a:chOff x="1258920" y="3933720"/>
            <a:chExt cx="1954080" cy="25660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rcRect l="31350" t="20306" r="26971" b="12499"/>
            <a:stretch/>
          </p:blipFill>
          <p:spPr>
            <a:xfrm>
              <a:off x="1258920" y="3933720"/>
              <a:ext cx="195408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258920" y="6094080"/>
              <a:ext cx="1952640" cy="40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arm</a:t>
              </a: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646000" y="3421080"/>
            <a:ext cx="1087920" cy="4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rm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6021360"/>
            <a:ext cx="1214280" cy="4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rm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6748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360" y="47973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30520" y="1413000"/>
            <a:ext cx="26802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ля вытянутых лу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звезды в компле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не зависит от их д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411280" y="2708280"/>
          <a:ext cx="479124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08280"/>
                    <a:ext cx="479124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042920" y="1916280"/>
          <a:ext cx="1457280" cy="107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1916280"/>
                    <a:ext cx="145728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6732720" y="3500280"/>
          <a:ext cx="1228680" cy="168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3500280"/>
                    <a:ext cx="1228680" cy="16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187280" y="3933720"/>
          <a:ext cx="1229040" cy="168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933720"/>
                    <a:ext cx="12290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059280" y="5373720"/>
          <a:ext cx="1819080" cy="104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5373720"/>
                    <a:ext cx="18190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780000" y="1628640"/>
          <a:ext cx="1819080" cy="104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0000" y="1628640"/>
                    <a:ext cx="18190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30480" y="1052640"/>
            <a:ext cx="84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ребнеобразный полиме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инейная ПЭ цеп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6920" y="208080"/>
            <a:ext cx="25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ch&l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9800" y="651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0546" t="0" r="10662" b="0"/>
          <a:stretch/>
        </p:blipFill>
        <p:spPr>
          <a:xfrm>
            <a:off x="900000" y="1700280"/>
            <a:ext cx="5759640" cy="3817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-2244600" y="610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7640" y="5392800"/>
            <a:ext cx="61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ая цепь-100 час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х цепей п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м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ц) в кажд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пи привиты к каждому второму моно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95200" y="18900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йтральный гребнеобразный пол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10525" t="0" r="10614" b="0"/>
          <a:stretch/>
        </p:blipFill>
        <p:spPr>
          <a:xfrm>
            <a:off x="1692360" y="2133720"/>
            <a:ext cx="5840280" cy="3851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3680" y="307800"/>
            <a:ext cx="4798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аряженный гребнеобразный пол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се боковые цепи заря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32560" y="1432080"/>
            <a:ext cx="27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0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линейного П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11026" t="0" r="10852" b="0"/>
          <a:stretch/>
        </p:blipFill>
        <p:spPr>
          <a:xfrm>
            <a:off x="1835280" y="1628640"/>
            <a:ext cx="5937120" cy="3967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692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z =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0.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093080" y="765000"/>
          <a:ext cx="1439640" cy="5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765000"/>
                    <a:ext cx="14396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466720" y="5897520"/>
            <a:ext cx="48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структуры типа «ожерел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rcRect l="10264" t="0" r="10131" b="0"/>
          <a:stretch/>
        </p:blipFill>
        <p:spPr>
          <a:xfrm>
            <a:off x="1979640" y="1916280"/>
            <a:ext cx="5950080" cy="3889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048200" y="92700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3184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7656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10700" t="12662" r="10776" b="12657"/>
          <a:stretch/>
        </p:blipFill>
        <p:spPr>
          <a:xfrm>
            <a:off x="2124000" y="2133720"/>
            <a:ext cx="5943600" cy="4030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327840" y="78408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22440" y="4941360"/>
            <a:ext cx="631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 при полной нейтрализации заряда зарядом 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лоб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479920" cy="3805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611160" y="2174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z=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1341360"/>
          <a:ext cx="604836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604836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25080" y="5661000"/>
            <a:ext cx="59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боковых цепей по расстоянию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ами в комплексах с разными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rcRect l="11026" t="0" r="10852" b="0"/>
          <a:stretch/>
        </p:blipFill>
        <p:spPr>
          <a:xfrm>
            <a:off x="6443640" y="1989000"/>
            <a:ext cx="2306520" cy="1541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11280" y="404640"/>
            <a:ext cx="75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ффект диспропорционирования в комплек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Э с гребнеобразным полим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253160" y="1100160"/>
            <a:ext cx="610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мпле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гребнеобразный полимер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линейная ПЭ ц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37200" y="2131920"/>
            <a:ext cx="73810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ормируется структура типа «ожерелье» при малых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ффект диспропорцион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84200" y="423720"/>
            <a:ext cx="26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Qch&lt; Qmacro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11026" t="0" r="10852" b="0"/>
          <a:stretch/>
        </p:blipFill>
        <p:spPr>
          <a:xfrm>
            <a:off x="5508720" y="429264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48360" y="404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азветвленные заряженные макромолеку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вез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ндример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ребнеобразные пол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5080" y="3213000"/>
            <a:ext cx="56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объмная плотность за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образования комплексов с друг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женными молекул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2720" y="5157720"/>
            <a:ext cx="39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ило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вяз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нтейнеры для лекарств или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Флокулля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56360" y="1197000"/>
            <a:ext cx="2448000" cy="154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1617480" cy="15796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547640" y="1268280"/>
            <a:ext cx="1306440" cy="1586160"/>
            <a:chOff x="1547640" y="1268280"/>
            <a:chExt cx="1306440" cy="1586160"/>
          </a:xfrm>
        </p:grpSpPr>
        <p:pic>
          <p:nvPicPr>
            <p:cNvPr id="62" name="" descr=""/>
            <p:cNvPicPr/>
            <p:nvPr/>
          </p:nvPicPr>
          <p:blipFill>
            <a:blip r:embed="rId3"/>
            <a:srcRect l="18822" t="7039" r="29069" b="22781"/>
            <a:stretch/>
          </p:blipFill>
          <p:spPr>
            <a:xfrm>
              <a:off x="1558800" y="1268280"/>
              <a:ext cx="129528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47640" y="1333080"/>
              <a:ext cx="18432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95240" y="2343240"/>
            <a:ext cx="52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пасибо за внимание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476360" y="2421000"/>
            <a:ext cx="5486400" cy="3200400"/>
            <a:chOff x="1476360" y="2421000"/>
            <a:chExt cx="5486400" cy="320040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21293" t="17908" r="23975" b="28329"/>
            <a:stretch/>
          </p:blipFill>
          <p:spPr>
            <a:xfrm>
              <a:off x="1476360" y="2494440"/>
              <a:ext cx="1796400" cy="12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rcRect l="13987" t="24742" r="6324" b="17234"/>
            <a:stretch/>
          </p:blipFill>
          <p:spPr>
            <a:xfrm>
              <a:off x="4195440" y="2421000"/>
              <a:ext cx="2670840" cy="13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rcRect l="9730" t="24401" r="9396" b="41123"/>
            <a:stretch/>
          </p:blipFill>
          <p:spPr>
            <a:xfrm>
              <a:off x="1476360" y="3953880"/>
              <a:ext cx="5486400" cy="16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248080" y="3564000"/>
              <a:ext cx="2286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76280" y="3678120"/>
              <a:ext cx="2282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19560" y="5392800"/>
              <a:ext cx="2282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421800" y="544500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110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960" y="260280"/>
            <a:ext cx="74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Комплекс одной ПЭ цепи с двумя дендримерами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 (g=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7080" y="3789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79960" y="36450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8000" y="10000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яд одного денрим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71640" y="1197000"/>
          <a:ext cx="53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53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50920" y="49417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казания теории для зависимости числа адсорбированных мономеров цепи (на один макроион) от ее длины и числа мономеров в «мосте» или «хвосте» для комплексов гибкой цепи ПЭ с двумя или одним макрои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rcRect l="0" t="33335" r="0" b="33335"/>
          <a:stretch/>
        </p:blipFill>
        <p:spPr>
          <a:xfrm>
            <a:off x="539640" y="189000"/>
            <a:ext cx="3745080" cy="939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7020000" y="2349360"/>
            <a:ext cx="1297080" cy="1209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987640" y="1125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1125360"/>
            <a:ext cx="64764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4211640" y="2060640"/>
            <a:ext cx="288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284720" y="2924280"/>
            <a:ext cx="2735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40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2240" y="32688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дна ПЭ цепь и два макро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28200" y="85716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ch&gt;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 macro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19280" y="0"/>
          <a:ext cx="54738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0"/>
                    <a:ext cx="54738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3960" y="4581360"/>
            <a:ext cx="864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ение числа адсорбированных мономеров це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 один макроион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исла мономеров в «хвосте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ta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«мо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едсказаниями те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ферических макрои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dsorbed chain monomer units in complexes form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dendrimer with LPE as well as theoretical predictions for such comple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lso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3080" y="26028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цепь и два дендри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одел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8240" y="62064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сновные эффекты в комплексах разветвл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акроионов с линейными полиэлектроли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13400" y="2565360"/>
            <a:ext cx="10007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바탕"/>
              </a:rPr>
              <a:t>1.Q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바탕"/>
              </a:rPr>
              <a:t>&gt; Q macroion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переза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Q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lt; Q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cro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испропорционировани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  <a:ea typeface="바탕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микроструктур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28420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27117" t="6992" r="22748" b="11220"/>
          <a:stretch/>
        </p:blipFill>
        <p:spPr>
          <a:xfrm>
            <a:off x="7020000" y="4005360"/>
            <a:ext cx="16542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4784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3280" y="907920"/>
            <a:ext cx="63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ряд цепи ПЭ больше, чем полный заряд макро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87972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Перезарядка- </a:t>
            </a: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заряд адсорбированной цепи ПЭ больше, чем  необходимо для нейтрализации заряда макро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39480" y="25830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ch&gt; Q macro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V="1">
            <a:off x="539640" y="2852280"/>
            <a:ext cx="0" cy="259236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5445000"/>
            <a:ext cx="3600360" cy="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55640" y="3068280"/>
            <a:ext cx="1728720" cy="215892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3139920"/>
            <a:ext cx="0" cy="576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716280"/>
            <a:ext cx="151128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92720" y="2133720"/>
                <a:ext cx="34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484360" y="3716280"/>
            <a:ext cx="0" cy="1800360"/>
          </a:xfrm>
          <a:prstGeom prst="line">
            <a:avLst/>
          </a:prstGeom>
          <a:ln w="936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068640"/>
            <a:ext cx="1944720" cy="0"/>
          </a:xfrm>
          <a:prstGeom prst="line">
            <a:avLst/>
          </a:prstGeom>
          <a:ln w="936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24000" y="2276640"/>
                <a:ext cx="219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s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140360" y="5451480"/>
                <a:ext cx="502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95640" y="5589720"/>
                <a:ext cx="5032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H="1">
            <a:off x="539280" y="3716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870200"/>
                <a:ext cx="1584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0920" y="5516640"/>
                <a:ext cx="1008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H="1">
            <a:off x="539640" y="5227560"/>
            <a:ext cx="216000" cy="28908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79280" y="5302080"/>
                <a:ext cx="257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0" y="2852640"/>
                <a:ext cx="488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24000" y="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Комплекс заряженной полимерной цепи с противоположно заряженной сферой. Переза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7200" y="1125360"/>
            <a:ext cx="3531960" cy="64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Цепь образует упорядочен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структуру на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2760" y="28893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300720" y="3284640"/>
            <a:ext cx="287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88880" y="419256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Phase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26920" y="3500280"/>
            <a:ext cx="647640" cy="72072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380360" y="1806480"/>
                <a:ext cx="863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380360" y="2467080"/>
                <a:ext cx="1079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2425680" cy="2262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2374920" cy="2108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1080" y="6165720"/>
            <a:ext cx="58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Теория-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Nguyen, T. T.; Shklovskii, B. I. </a:t>
            </a:r>
            <a:r>
              <a:rPr b="0" i="1" lang="en-US" sz="1800" spc="-1" strike="noStrike">
                <a:solidFill>
                  <a:srgbClr val="3366cc"/>
                </a:solidFill>
                <a:latin typeface="Arial"/>
              </a:rPr>
              <a:t>Physica 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6384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095480"/>
            <a:ext cx="835344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«Крупно-зернистая»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мономеры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nnard –Jones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астицы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талкивающий потенциал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вязи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межчастичные взаимо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мны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лектрост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еявный растворитель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язкая среда и источник случайных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д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охастическая дина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Решение уравнений Ланжевена для всех частиц . Жесткие связи-через множители Лагранж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и программы:Н.К.Балабаев, И.М.Неелов, А.В.Лю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971640" y="692280"/>
            <a:ext cx="5114880" cy="4177800"/>
            <a:chOff x="971640" y="692280"/>
            <a:chExt cx="5114880" cy="41778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971640" y="978120"/>
              <a:ext cx="1285920" cy="12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505240" y="763200"/>
              <a:ext cx="14382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499400" y="2577960"/>
              <a:ext cx="23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08960" y="2577960"/>
              <a:ext cx="23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760" y="2577960"/>
              <a:ext cx="230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4172040" y="692280"/>
              <a:ext cx="191448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1823040" y="3163680"/>
              <a:ext cx="1198800" cy="11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765960" y="3041640"/>
              <a:ext cx="144324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372560" y="4641840"/>
              <a:ext cx="230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6880" y="4641840"/>
              <a:ext cx="230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39280" y="4941720"/>
            <a:ext cx="23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лекула «гость»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нейная ПЭ ц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ch=48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4160" y="4941720"/>
            <a:ext cx="656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лекула «хозяин»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)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6x8, b) 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везда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5x9, c)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4x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d)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ендример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3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-ей генерации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(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се частицы заряж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e)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ендример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-ой ген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(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аряжены концевые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948360" y="1557360"/>
            <a:ext cx="1017720" cy="2951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88280" y="-792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529080" cy="308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097440" cy="21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324036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95280" y="3433680"/>
            <a:ext cx="3889440" cy="226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03600" y="60930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61800" y="242100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2520" y="2349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06360" y="5751360"/>
            <a:ext cx="12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h=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60360" y="260280"/>
            <a:ext cx="44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везд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4X12 +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нейный П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3:11:33Z</dcterms:created>
  <dc:creator>Toshiba</dc:creator>
  <dc:description/>
  <dc:language>en-US</dc:language>
  <cp:lastModifiedBy>владелец</cp:lastModifiedBy>
  <dcterms:modified xsi:type="dcterms:W3CDTF">2009-06-05T05:52:18Z</dcterms:modified>
  <cp:revision>71</cp:revision>
  <dc:subject/>
  <dc:title>Biarrit</dc:title>
</cp:coreProperties>
</file>